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7D055-519A-4622-ABBC-E1A24F842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F7498-34DB-4C24-95E9-DB2C50249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631A3-DB1B-4841-A878-AF056D6B8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5A3D0-D57F-47D9-9996-9791B3ACA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0E4AE-3410-438A-B728-5062AE103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2C693-C8E6-4777-A8A4-0D2490B96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40648-1E47-4663-B19A-46D58773A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7E53D-5B0E-4A2B-8FE7-14D78BA79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363A3-0FFE-4229-B955-6089752E2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1F5FE-1E7C-493E-A3BC-9BC28E5F9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2CA8F-C5E1-4495-8764-F8AB1CC11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44371-09A8-47F5-9126-49FC32EB8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0BD21-CA65-4371-B069-2F8D3FAC7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EF04C-52BD-4261-BBC2-44CA436CB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0FC4B-2963-4A53-9DFF-9CE77AB98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6C0DB-C7DA-43AA-9E32-5F725E200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BC3BE-198E-4984-997A-C27CDEC30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25374-DD73-4C9A-8462-DF18D9E36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C244F-8512-4AAD-A514-CFDE47218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953C8-4C76-4A26-9B94-E48D9F452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E1864-EFC2-46F0-B3A7-5A57053F6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841F5-68EF-441F-9BED-7B3237314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A711D-C6EC-4133-B8AF-FCF8D4ECA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14ADC-C244-4152-9E9B-0C2AE22DC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F302A-B767-4BF5-8341-EBDA22EE824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6C221-1B46-402D-ACA7-15853505E36C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hapter 27: The Path of Empire 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890-1899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Start of War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mericans went to war enthusiastically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rmy numbered only 2100 officers and 28,000 men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00,000 Spanish troops in Cuba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panish navy in wretched condition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ousands of miles from hom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Victory at Manila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odore Roosevelt (assistant navy secretary) ordered Commodore George Dewey to descend upon Spain’s Philippines in event of war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y 1, 1898- Dewey attacks &amp; destroys 10 ship Spanish fleet at Manila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attle of Manila Bay”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10" name="" descr=""/>
          <p:cNvPicPr/>
          <p:nvPr/>
        </p:nvPicPr>
        <p:blipFill>
          <a:blip r:embed="rId1"/>
          <a:stretch/>
        </p:blipFill>
        <p:spPr>
          <a:xfrm>
            <a:off x="6477120" y="4457880"/>
            <a:ext cx="2555640" cy="24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Unexpected Imperialistic Effect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reign warships gathered in Manila harb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S captured Manila in August 1898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cused attention on Hawai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eeded archipelago to send supplies &amp; reinforcements to Dewey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gress passed joint-resolution to annex Hawaii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pproved  by McKinley, July 1898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sidents of Hawaii granted US citizenship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onfused Invasion of Cuba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panish government sent fleet of warships to Cuba after outbreak of wa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lockaded by more powerful American flee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General William Shafter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led American forces sent to drive out the Spanish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ll-prepared for war in the tropics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15" name="" descr=""/>
          <p:cNvPicPr/>
          <p:nvPr/>
        </p:nvPicPr>
        <p:blipFill>
          <a:blip r:embed="rId1"/>
          <a:stretch/>
        </p:blipFill>
        <p:spPr>
          <a:xfrm>
            <a:off x="6781680" y="3809880"/>
            <a:ext cx="1905120" cy="29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Rough Rider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5410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giment of voluntee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nsisted largely of western cowboys (&amp; ex-polo players, ex-convicts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mmanded by Colonel Leonard Woo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rganized principally by Theodore Roosevelt, lieutenant colonel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ought in El Caney &amp; San Juan Hill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18" name="" descr=""/>
          <p:cNvPicPr/>
          <p:nvPr/>
        </p:nvPicPr>
        <p:blipFill>
          <a:blip r:embed="rId1"/>
          <a:stretch/>
        </p:blipFill>
        <p:spPr>
          <a:xfrm>
            <a:off x="2895480" y="4141800"/>
            <a:ext cx="3353040" cy="27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urtains for Spain in America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pain’s fleet is defeated in Santiago, Santiago surrender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eneral Nelson Miles began descent upon Puerto Ric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t w/ little resistan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aw Americans as liberating heroe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ral men lost lives to sickness (typhoid fever) during war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McKinley: Duty, Destiny &amp; Dollar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panish &amp; American negotiators met in Paris to begin peace discuss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mericans secured Guam &amp; Puerto Ric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hilippines presented McKinley w/ a proble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rguments for and against annexation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merica agrees to pay Spain $20 million for The Philippine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25" name="" descr=""/>
          <p:cNvPicPr/>
          <p:nvPr/>
        </p:nvPicPr>
        <p:blipFill>
          <a:blip r:embed="rId1"/>
          <a:stretch/>
        </p:blipFill>
        <p:spPr>
          <a:xfrm>
            <a:off x="1981080" y="1143000"/>
            <a:ext cx="495324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“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urse” of Empire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Anti-Imperialistic League-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sprang into being to fight McKinley’s imperialistic motiv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illiam Jennings Brya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atified treaty in order to give Filipinos their independenc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28" name="" descr=""/>
          <p:cNvPicPr/>
          <p:nvPr/>
        </p:nvPicPr>
        <p:blipFill>
          <a:blip r:embed="rId1"/>
          <a:stretch/>
        </p:blipFill>
        <p:spPr>
          <a:xfrm>
            <a:off x="4191120" y="3886200"/>
            <a:ext cx="258588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Perplexities in Puerto Rico &amp; Cuba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Foraker Act of 1900-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Congress granted Puerto Ricans a limited degree of popular government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917- grants them US citizenship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sular Cas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Platt Amendment-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replaces Teller Amendment, ensured US involvement in Cuban affai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S could intervene w/ troop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Imperialist Strings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verend Josiah Strong-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Our Country: Its Possible Future and Its Present Crisi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spired missionaries to travel to foreign nation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cial Darwinism- earth belongs to strong &amp; fi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lfred Thayer Mahan-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The Influence of Sea Power upon History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trol of the sea is key to world dominan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80280" y="5715000"/>
            <a:ext cx="96372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New Horizons in Two Hemispheres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panish-American war lasted only 113 day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S prestige as a world power increas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plendid little war”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S became full-fledged Far Eastern pow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33" name="" descr=""/>
          <p:cNvPicPr/>
          <p:nvPr/>
        </p:nvPicPr>
        <p:blipFill>
          <a:blip r:embed="rId1"/>
          <a:stretch/>
        </p:blipFill>
        <p:spPr>
          <a:xfrm>
            <a:off x="2438280" y="3909960"/>
            <a:ext cx="4191120" cy="29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Monroe’s Doctrine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old discovered in contest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rea between Venezuela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&amp; British Guiana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S declared that Britis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ere violating Monro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octrin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ritain rejected relevan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f Monroe Doctrin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S willing to go to war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ritain chose not to fight wa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91" name="" descr=""/>
          <p:cNvPicPr/>
          <p:nvPr/>
        </p:nvPicPr>
        <p:blipFill>
          <a:blip r:embed="rId1"/>
          <a:stretch/>
        </p:blipFill>
        <p:spPr>
          <a:xfrm>
            <a:off x="5715000" y="1676520"/>
            <a:ext cx="3186000" cy="39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Effects of Venezuelan Conflic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estige of the Monroe Doctrine was enhanc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atin American countries pleased by determination of US to protect them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reat Rapprochement”- reconciliation between the United States &amp; Britai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ecame a cornerstone of foreign policies for both nation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Hawaii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820- first missionaries in Hawaii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ofits of sugar cultivation became less profitable under McKinley Tariff of 189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S wanted to annex Hawaii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Queen Liliuokalani insisted against annexatio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verthrown in 1893 by whit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volutionis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eveland withdrew treaty to annex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awaii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96" name="" descr=""/>
          <p:cNvPicPr/>
          <p:nvPr/>
        </p:nvPicPr>
        <p:blipFill>
          <a:blip r:embed="rId1"/>
          <a:stretch/>
        </p:blipFill>
        <p:spPr>
          <a:xfrm>
            <a:off x="6934320" y="4038480"/>
            <a:ext cx="200016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ubans Rise in Revolt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uban sugar profit became less profitable w/ Tariff of 189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ubans revolted against Spanish in 1895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merican sympathies went to Cub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S had investment &amp; annual trade stake in Cub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ubans sent to reconcentration camps where they were treated poorl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896- Congress passes resolution that recognized belligerence of revolted Cuba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leveland refused to budge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cc"/>
                </a:solidFill>
                <a:latin typeface="Tahoma"/>
              </a:rPr>
              <a:t>Maine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Explosion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Yellow Journalism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esents little or no well-researched news, uses eye-catching headlines to sell more newspap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used Americans to think conditions in Cuba were worse than they actually wer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merican ship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Main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blew up in Havana port (Feb. 1898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merican journalists claimed Spain had sunk i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ar w/ Spain was imminent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3" name="" descr=""/>
          <p:cNvPicPr/>
          <p:nvPr/>
        </p:nvPicPr>
        <p:blipFill>
          <a:blip r:embed="rId1"/>
          <a:stretch/>
        </p:blipFill>
        <p:spPr>
          <a:xfrm>
            <a:off x="1523880" y="1066680"/>
            <a:ext cx="5791320" cy="49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War Begins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drid had agreed to US 2 demands: end of reconcentration camps &amp; armistice w/ Cuban rebel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cKinley did not want war, but American people did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pril 1898- McKinley sends war message to Congres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Teller Amendment-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proclaimed that when the U.S. had overthrown Spanish misrule, it would give Cubans their freedom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8T20:58:14Z</dcterms:created>
  <dc:creator>emily.johnson</dc:creator>
  <dc:description/>
  <dc:language>en-US</dc:language>
  <cp:lastModifiedBy>emily.johnson</cp:lastModifiedBy>
  <dcterms:modified xsi:type="dcterms:W3CDTF">2013-01-30T19:07:48Z</dcterms:modified>
  <cp:revision>8</cp:revision>
  <dc:subject/>
  <dc:title>Chapter 27: The Path of Empire </dc:title>
</cp:coreProperties>
</file>